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690D-45DF-44DD-B228-08C7811F6C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verbs –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 and HAVE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rbs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nd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y late evening the happy tune doesn’t sound happ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late evening the happy tune doesn’t sound hap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doesn't or don't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 ______ think I can cut it down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esn't or don't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______ think I can cut it d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 don’t think I can cut it down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n’t think I can cut it d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ve Verb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ul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 has with the pronouns he, she, and it, or whenever you mean only one person or th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 have with the pronouns I, you, they and we, or whenever you mean more than one person or th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has with the pronouns he, she, and it, or whenever you mean only one person or 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have with the pronouns I, you, they and we, or whenever you mean more than one person or 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has or have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 ______ tracked coons in the rain, snow, and hail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has or have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______ tracked coons in the rain, snow, and h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 have tracked coons in the rain, snow, and hail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racked coons in the rain, snow, and h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has or have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ma _______ a special dinner planned for Bill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has or have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a _______ a special dinner planned for Bil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ma has a special dinner planned for Bill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a has a special dinner planned for Bil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 Verb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ul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 does with the pronouns he, she, and it, or whenever you mean only one person or th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 do with the pronouns I, you, they and we, or whenever you mean more than one person or th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oes with the pronouns he, she, and it, or whenever you mean only one person or 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o with the pronouns I, you, they and we, or whenever you mean more than one person or 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hasn't or haven't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gust of wind ________ been through the valley all da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hasn't or haven't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ust of wind ________ been through the valley all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gust of wind hasn’t been through the valley all da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ust of wind hasn’t been through the valley all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hasn't or haven't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blisters ______ broken open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hasn't or haven't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isters ______ broken op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blisters haven’t broken open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isters haven’t broken op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actice – Number your paper from 1 to 15. Write the correct answer for each of the following item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. Hounds (do, does) hunt best during cool fall night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– Number your paper from 1 to 15. Write the correct answer for each of the following i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unds (do, does) hunt best during cool fall nigh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2. (Do, Does) you know that Billy is a brave young man?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(Do, Does) you know that Billy is a brave young ma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3. The barking (do, does) sound far awa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barking (do, does) sound far aw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4. You (doesn’t, don’t) have to stay out here all day choppin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You (doesn’t, don’t) have to stay out here all day chopp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5. I (doesn’t, don’t)  want to give up, Grandpa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I (doesn’t, don’t)  want to give up, Grandp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6. "No, he (doesn’t, don’t) ," Grandpa sai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"No, he (doesn’t, don’t) ," Grandpa sa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7. There (has, have) never been a more beautiful night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There (has, have) never been a more beautiful n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8. You (has, have)  to leave the tre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You (has, have)  to leave the tr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9. Raccoons (has, have) many tricks to escape from their captor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Raccoons (has, have) many tricks to escape from their cap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0. You (hasn’t, haven’t) seen Little Ann or Old Dan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You (hasn’t, haven’t) seen Little Ann or Old D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1. The ax (hasn’t, haven’t)  left Billy's hands all da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The ax (hasn’t, haven’t)  left Billy's hands all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2. The trouble (hasn’t, haven’t) stopped Billy from tryin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 The trouble (hasn’t, haven’t) stopped Billy from try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3. Which sentence in the paragraph below contains a mistak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(1) Redbone coonhounds are a medium sized dog. (2) Their coats are a deep red color. (3) They has brown to hazel eyes. (4) Their ears are low and reach nearly to the end of their noses. 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 Which sentence in the paragraph below contains a mist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Redbone coonhounds are a medium sized dog. (2) Their coats are a deep red color. (3) They has brown to hazel eyes. (4) Their ears are low and reach nearly to the end of their nose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4. Which sentence in the paragraph below contains a mistak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(1) Redbones have a deep broad chest and a strong slightly arched back. (2)Their feet has cat-like paws. (3)The medium length tail is slightly bushy.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 Which sentence in the paragraph below contains a mist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Redbones have a deep broad chest and a strong slightly arched back. (2)Their feet has cat-like paws. (3)The medium length tail is slightly bush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5. Which sentence in the paragraph below contains a mistak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(1)  Redbones are agile which help them when hunting in steep, rocky areas. (2) Redbones enjoy swimming. (3) They has a natural instinct for huntin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. Which sentence in the paragraph below contains a mist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 Redbones are agile which help them when hunting in steep, rocky areas. (2) Redbones enjoy swimming. (3) They has a natural instinct for hun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5. Which sentence in the paragraph below contains a mistak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(1)  Most Redbones are used for coon hunting, but they does track bear, cougar, and bobcats. (2) Most hunters prefer to hunt with a pack of Redbones instead of a single do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. Which sentence in the paragraph below contains a mist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 Most Redbones are used for coon hunting, but they does track bear, cougar, and bobcats. (2) Most hunters prefer to hunt with a pack of Redbones instead of a single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do or does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e _________ know that hounds have a good sense of smell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 or does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_________ know that hounds have a good sense of sm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e do know that hounds have a good sense of smell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know that hounds have a good sense of sm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do or does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ind _____ blow more in the river bottom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 or does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_____ blow more in the river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ind does blow more in the river bottom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does blow more in the river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doesn't or don't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y late evening the happy tune _______sound happ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esn't or don't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late evening the happy tune _______sound hap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45C7-586B-43C6-80B0-D06E252E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3992-D8FE-4932-8B5F-5A772F83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1277-95A1-4FCB-A756-42E1719E6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86EE-A3D4-48F5-A0BA-5FFFE5576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B8F5-E6F6-48C9-9387-C1BFB363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0134-186E-4886-A591-DCE2169F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5ACE-D575-4C3F-A143-A346588B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2CCA-4F8A-442A-BC5F-78D882C1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8DA2-A91D-4BC0-943D-E7AA056C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BDC9-194B-4953-B105-E6B520D3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8AC5-BE63-4AED-BB3C-E76542E1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A60F-8C0B-4ECA-B5AA-42EFE79E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8FAC-0967-4818-89AF-186E81FF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8CDB-3E06-4AAD-9FBB-2A0A0385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9461-BFA9-4B69-97A3-8BEED81E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DE24-65F3-421A-808E-5C7CDF6D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2F39-01FE-49DF-9310-AE8F4BD45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0133-FBA3-402C-9CBE-6FEB060E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1B8D-2416-4360-B986-A02047A9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09F1-C8D3-4222-BDBC-1A22D870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EFC1-DB30-454E-BBF4-E138A494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8F52-213E-4C28-BEC3-1799124B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77BD-0097-48AD-BB4D-5DB00266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B834-A8A2-4E8B-8926-3AD3506B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6266-56EC-4E5E-A0FD-8C15622C5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1" marL="653760" indent="-251280">
              <a:spcBef>
                <a:spcPts val="10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2" marL="1005840" indent="-2008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3" marL="1407960" indent="-200880">
              <a:spcBef>
                <a:spcPts val="10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4" marL="1810440" indent="-200880">
              <a:spcBef>
                <a:spcPts val="1001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5" marL="1810440" indent="-200880">
              <a:spcBef>
                <a:spcPts val="10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6" marL="1810440" indent="-200880">
              <a:spcBef>
                <a:spcPts val="10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1" marL="653760" indent="-251280">
              <a:spcBef>
                <a:spcPts val="10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2" marL="1005840" indent="-2008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3" marL="1407960" indent="-200880">
              <a:spcBef>
                <a:spcPts val="10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4" marL="1810440" indent="-200880">
              <a:spcBef>
                <a:spcPts val="1001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5" marL="1810440" indent="-200880">
              <a:spcBef>
                <a:spcPts val="10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6" marL="1810440" indent="-200880">
              <a:spcBef>
                <a:spcPts val="10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458C-87B5-4331-BDEC-3D3B56E35EE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The verbs –</a:t>
            </a:r>
            <a:br>
              <a:rPr sz="5700"/>
            </a:b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DO and HAVE 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y late evening the happy tune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doesn’t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ound happy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es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I ______ think I can cut it down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I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don’t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ink I can cut it down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Have Verb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Rule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 has with the pronouns he, she, and it, or whenever you mean only one person or thing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 have with the pronouns I, you, they and we, or whenever you mean more than one person or thing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457200" y="277920"/>
          <a:ext cx="8229600" cy="5817960"/>
        </p:xfrm>
        <a:graphic>
          <a:graphicData uri="http://schemas.openxmlformats.org/drawingml/2006/table">
            <a:tbl>
              <a:tblPr/>
              <a:tblGrid>
                <a:gridCol w="1981080"/>
                <a:gridCol w="1600200"/>
                <a:gridCol w="4648320"/>
              </a:tblGrid>
              <a:tr h="13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Singular Nouns or </a:t>
                      </a: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Pronoun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Verb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Sentence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98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/</a:t>
                      </a:r>
                      <a:br>
                        <a:rPr sz="3600"/>
                      </a:b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n't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hasn't been here all night.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98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Bill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/</a:t>
                      </a:r>
                      <a:br>
                        <a:rPr sz="3600"/>
                      </a:b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n't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Billy has to carry a lantern.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679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t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/</a:t>
                      </a:r>
                      <a:br>
                        <a:rPr sz="3600"/>
                      </a:b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n't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t has a bright flame that helps Billy see.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228600" y="380880"/>
          <a:ext cx="8610480" cy="5578560"/>
        </p:xfrm>
        <a:graphic>
          <a:graphicData uri="http://schemas.openxmlformats.org/drawingml/2006/table">
            <a:tbl>
              <a:tblPr/>
              <a:tblGrid>
                <a:gridCol w="2286000"/>
                <a:gridCol w="1523880"/>
                <a:gridCol w="4800600"/>
              </a:tblGrid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Plural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Nouns or </a:t>
                      </a:r>
                      <a:r>
                        <a:rPr b="1" lang="en-US" sz="28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Pronoun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Verb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Sentence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ound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/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n't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ounds have a good sense of smell.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W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/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n'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We haven't seen this many coon pelts since we were little.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You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/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n'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You have to skin the coon, and dry the pelt.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/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n'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 have to sell the pelts at Grandpa's store.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s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ve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I ______ tracked coons in the rain, snow, and hail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I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have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racked coons in the rain, snow, and hail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s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ve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Mama _______ a special dinner planned for Billy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Mama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has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a special dinner planned for Billy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Do Verb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Rule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 does with the pronouns he, she, and it, or whenever you mean only one person or thing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 do with the pronouns I, you, they and we, or whenever you mean more than one person or thing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s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ve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A gust of wind ________ been through the valley all day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A gust of wind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hasn’t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een through the valley all day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s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ve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e blisters ______ broken open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e blisters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haven’t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roken open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ractice – Number your paper from 1 to 15. Write the correct answer for each of the following items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6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1. Hounds (do, does) hunt best during cool fall nights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2. (Do, Does) you know that Billy is a brave young man?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3. The barking (do, does) sound far away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4. You (doesn’t, don’t) have to stay out here all day chopping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5. I (doesn’t, don’t)  want to give up, Grandpa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6. "No, he (doesn’t, don’t) ," Grandpa said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304920" y="838080"/>
          <a:ext cx="8229600" cy="5348520"/>
        </p:xfrm>
        <a:graphic>
          <a:graphicData uri="http://schemas.openxmlformats.org/drawingml/2006/table">
            <a:tbl>
              <a:tblPr/>
              <a:tblGrid>
                <a:gridCol w="1981080"/>
                <a:gridCol w="1600200"/>
                <a:gridCol w="4648320"/>
              </a:tblGrid>
              <a:tr h="1827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Singular Nouns or </a:t>
                      </a: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Pronoun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Verb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Sentence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90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n't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does his chores before going hunting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Billy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/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n't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Billy doesn't like to stop hunting long enough to eat dinner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9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/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n'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t doesn't take long to catch three coons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7. There (has, have) never been a more beautiful night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8. You (has, have)  to leave the tree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9. Raccoons (has, have) many tricks to escape from their captors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10. You (hasn’t, haven’t) seen Little Ann or Old Dan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11. The ax (hasn’t, haven’t)  left Billy's hands all day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12. The trouble (hasn’t, haven’t) stopped Billy from trying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3. Which sentence in the paragraph below contains a mistak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(1) Redbone coonhounds are a medium sized dog. (2) Their coats are a deep red color. (3) They has brown to hazel eyes. (4) Their ears are low and reach nearly to the end of their noses. 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4. Which sentence in the paragraph below contains a mistak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(1) Redbones have a deep broad chest and a strong slightly arched back. (2)Their feet has cat-like paws. (3)The medium length tail is slightly bushy.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5. Which sentence in the paragraph below contains a mistak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(1)  Redbones are agile which help them when hunting in steep, rocky areas. (2) Redbones enjoy swimming. (3) They has a natural instinct for hunting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5. Which sentence in the paragraph below contains a mistak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(1)  Most Redbones are used for coon hunting, but they does track bear, cougar, and bobcats. (2) Most hunters prefer to hunt with a pack of Redbones instead of a single dog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457200" y="838080"/>
          <a:ext cx="8229600" cy="4586400"/>
        </p:xfrm>
        <a:graphic>
          <a:graphicData uri="http://schemas.openxmlformats.org/drawingml/2006/table">
            <a:tbl>
              <a:tblPr/>
              <a:tblGrid>
                <a:gridCol w="1981080"/>
                <a:gridCol w="1600200"/>
                <a:gridCol w="4648320"/>
              </a:tblGrid>
              <a:tr h="13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Plural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Nouns or </a:t>
                      </a: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Pronoun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Verb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Sentence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8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ound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n't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ounds don't bellow unless they have treed a coon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83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W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n't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We do our hunting at night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n't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 do the cooking over a hot fire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es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We _________ know that hounds have a good sense of smell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We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do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know that hounds have a good sense of smell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es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Wind _____ blow more in the river bottom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Wind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does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low more in the river bottom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es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y late evening the happy tune _______sound happy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21:42:55Z</dcterms:created>
  <dc:creator>Gay  Miller</dc:creator>
  <dc:description/>
  <dc:language>en-US</dc:language>
  <cp:lastModifiedBy>RomaK</cp:lastModifiedBy>
  <dcterms:modified xsi:type="dcterms:W3CDTF">2015-09-02T09:41:51Z</dcterms:modified>
  <cp:revision>31</cp:revision>
  <dc:subject/>
  <dc:title>Slide 1</dc:title>
</cp:coreProperties>
</file>